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F88-EE85-46BF-874F-241B09B2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0E4-C8D3-495D-93A3-5A1891EB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898-1BD5-456C-84D3-49CBFF1F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A42-A147-4CB3-A403-6E941B21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F72-59FC-4DAE-A998-13B0F250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344-FABD-4A83-9E43-E28473A9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0D4-8C28-4F7C-B979-29F73A43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30B-4A44-425C-9A09-AA22860F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88B-B123-4E44-B0E5-D4AC2B1F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B8C-DF3F-4DCD-8E0D-DB60F77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C29-6560-40D2-8A33-E199737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28B-0475-41CA-8C74-C0487DD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C4A9-0809-4BF0-84A1-E99C86D72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700280"/>
            <a:ext cx="568944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RITNEY SPEAR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374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Britney Spears published her first  video at the age of sixteen….baby one mor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84720" cy="494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11280" y="404640"/>
            <a:ext cx="7921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ER LIF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9890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Britney Jean Spears (born December 2,1981) is an American, female, pop singer and act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645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She started her career at the age of eight, but they rejected her for her short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22936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2920" y="692280"/>
            <a:ext cx="619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ER ALBUM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564000" y="2349360"/>
            <a:ext cx="3097080" cy="389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796000" y="2492280"/>
            <a:ext cx="3110040" cy="333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716360" y="4600440"/>
            <a:ext cx="2286000" cy="2257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2276640"/>
            <a:ext cx="327672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55640" y="3141720"/>
            <a:ext cx="359892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42920" y="1557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oper Black"/>
              </a:rPr>
              <a:t>She has released five albu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105264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19280" y="2492280"/>
            <a:ext cx="57610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Y:  BELÉN HOYO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12:15Z</dcterms:created>
  <dc:creator>Alumno56</dc:creator>
  <dc:description/>
  <dc:language>en-US</dc:language>
  <cp:lastModifiedBy>Alumno56</cp:lastModifiedBy>
  <dcterms:modified xsi:type="dcterms:W3CDTF">2008-06-09T08:22:15Z</dcterms:modified>
  <cp:revision>4</cp:revision>
  <dc:subject/>
  <dc:title>Diapositiva 1</dc:title>
</cp:coreProperties>
</file>